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5C4A-7B8D-4417-85B1-6C241BEA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6645-8685-44F9-9DA7-D10113B9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71D-7D6A-496A-967B-B61D815F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5F03-05FA-4B32-B306-6A2D6B43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D3CB-DAD1-4993-80D4-AF589705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DA49-CCD8-45AB-9D28-ABA21FF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2DE-1DD6-444C-9EC5-1ECCD8D9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8DF3-47C2-454C-8429-540C0BB0D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3F1C-7BE6-451B-8A26-18107FE1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885-E787-46FA-9C29-090E6F4D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1C0-23CC-4B30-99DA-EFA696E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BDEF-B5FD-4956-B8AD-0EA6F67E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FF4B4-9A41-472A-BCEA-302F6B622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WP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-Wide Positive Behavior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32408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54040" y="5105520"/>
            <a:ext cx="11635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ec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Here, Be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new ru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ol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l Tools = Lesson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l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h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fe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y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d 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ral Fo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d how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 Referr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nd how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ption of Offen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Off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 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 Off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Strikes, You’re Ou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New Look For SAP/Behavior Intervention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e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sel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team/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, Data,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S data collec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r P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0T15:31:40Z</dcterms:created>
  <dc:creator>sollon</dc:creator>
  <dc:description/>
  <dc:language>en-US</dc:language>
  <cp:lastModifiedBy>sollon</cp:lastModifiedBy>
  <dcterms:modified xsi:type="dcterms:W3CDTF">2007-08-20T17:31:31Z</dcterms:modified>
  <cp:revision>5</cp:revision>
  <dc:subject/>
  <dc:title>SWPB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68293451</vt:r8>
  </property>
  <property fmtid="{D5CDD505-2E9C-101B-9397-08002B2CF9AE}" pid="3" name="_AuthorEmail">
    <vt:lpwstr>sollon@washington.k12.pa.us</vt:lpwstr>
  </property>
  <property fmtid="{D5CDD505-2E9C-101B-9397-08002B2CF9AE}" pid="4" name="_AuthorEmailDisplayName">
    <vt:lpwstr>Sollon, Margaret</vt:lpwstr>
  </property>
  <property fmtid="{D5CDD505-2E9C-101B-9397-08002B2CF9AE}" pid="5" name="_EmailSubject">
    <vt:lpwstr/>
  </property>
</Properties>
</file>